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90B-97D9-42C6-8742-17F88719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672-516C-458A-B9BF-D8C3834F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B30-452A-4545-A0FC-5FF74B5D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9E8-E491-484D-8CA9-37FA8BB9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E866-40E1-46BE-941F-3A040596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AF14-2184-4502-8822-D48B50BD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C9D1-47AA-40AB-93C3-6C4CCBC1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53BC-F1ED-4213-B147-A4262E03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0033-051A-4E12-9800-DA840231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AFDC-B775-4680-80EE-D5CED921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F913-1798-442C-B1E9-E5EA538D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89F-1E83-4015-95D6-217E3957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8A5E-95D8-4BCA-9C3A-A0F62EB1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0078-48C8-4886-989A-74DA638C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7A14-14EB-4950-B228-4020FD5A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E7C9-0E87-4B2B-9313-D29C9A40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69D4-3F92-41F3-890B-9ED678CC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AAB-B74B-4B42-85B7-39C2E9A2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974-C75C-4266-9CE3-2BD36C32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F94-55EE-4519-8FE4-5C4531CC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1A0-1433-4882-ACEF-4435DD5D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69C-C284-4677-B2E5-CC89DC7F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029-B09B-4C2D-9D28-55323B3F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139-CE85-4986-B8E6-C86505EA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516F-DA4D-4F33-A518-B092B8649FD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50E5-D4F3-45A5-8069-F66AF21BE2B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uarter 3; Lesson 2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3 – 4; Pages 129-13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Days of the Judg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Story of Rut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3833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that we are studying the Bible story that has a “thread” of continuity from Adam to Chri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limelech and Naomi, Boaz and Ruth make up an important part of God’s pl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brings to an end the time period called “The Judg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xt – “The United Kingdom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43200" y="4495680"/>
            <a:ext cx="35053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view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limelech, Naomi and their two sons moved to Moab because of fam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ir sons married Moabi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limelech and the two sons di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omi moved to back to Bethlehem with Ru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gleaned in the fields of Boaz, a near kinsman of Elimele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treated Ruth with many fav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aomi Plans For Ruth’s Future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uth 3:1-8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3833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, being kin, has a right 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redeem Elimelech’s property, an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take Ruth for a wif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omi’s plan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uth to “bathe” and dress 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fter Boaz finishes winnowing and after dinner, she is to lay around his feet as he sleep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did as instruc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startled to find a woman at his fe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asked Boaz to “redeem” h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oaz Responded Favorably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uth 3:9-18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3833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r reputation – a virtuous wom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liked the idea of redeeming her, but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re was a closer kin to redeem 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ould redeem her if closer kin did no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sent away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ill da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gave her a lot of barley for Naom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omi asked her to be pati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deeming Part of the Jubilee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ev. 25:8-55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98760"/>
            <a:ext cx="87631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land sold, it was returned in year of jubil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land sold because of poverty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is nearest kin could redeem 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could buy it back, if he prospered later 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t would be returned to him at jubil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proposed the redeeming 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limelech and Naomi possessed the 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omi – now widowed and po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4495680"/>
            <a:ext cx="38862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uty of a Brother to a Widow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Num. 27:9-11;  Deut. 25:5-10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a man died without an heir, his widow not to marry outside the fami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r husband’s brother to fulfill the duty to carry on the dead brother’s na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the brother refused, the widow went before the elders, took off one of his shoes and spat in his f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used Elimelech’s land and Mahlon’s widow to fit these two procedures of la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5486400"/>
            <a:ext cx="38098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oaz Arranges To Marry Ruth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uth 4:1-6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3833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met the closer kin in front of ten elders of the city in a public pl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told him that Naomi was selling the parcel of land that belonged to Elimele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closer kin – “I will redeem it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then said that Ruth went with the deal to raise up an inheritance for Mahl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closer kin refused to redeem because it would mess up his own inherit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oaz Marries Ruth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uth 4:7-22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3833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closer kin gave Boaz his sho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made a public declaration before witnesses of his buying the land and marrying Ru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eople blessed Boaz and Ru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were marri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had a child, Ob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68824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ed became the father of Jesse who became the father of Dav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alogy of Obed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nects to David: Israel greatest 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nects to Christ: Spiritual Israel greatest 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4724280"/>
            <a:ext cx="35053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01:16:58Z</dcterms:created>
  <dc:creator>Frank D Vines</dc:creator>
  <dc:description/>
  <dc:language>en-US</dc:language>
  <cp:lastModifiedBy>Frank D Vines</cp:lastModifiedBy>
  <dcterms:modified xsi:type="dcterms:W3CDTF">2005-03-27T03:01:21Z</dcterms:modified>
  <cp:revision>16</cp:revision>
  <dc:subject/>
  <dc:title>The Story of Ruth</dc:title>
</cp:coreProperties>
</file>